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pct" ContentType="image/x-pict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.pct" ContentType="image/x-pict"/>
  <Override PartName="/ppt/media/image4.png" ContentType="image/pn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CDA-97AD-4B0A-ADDC-B20D5E08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27A-B9CB-40BD-B3D6-769E079B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021-F7CD-40B9-BBDF-6E2AB467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51E-0251-4E3C-A322-F4944532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3B49-2529-4A3B-B909-83F64944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95CF-B25F-46E2-9E09-ECFA1CC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63E4-D13E-4016-872B-ACD2A1A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28D-B08B-4D79-9432-91A0269C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7A0-FBF2-444C-A52C-D8A37DF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D4A9-BF7D-4AE0-B4AC-DA1BAC6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EFC-AD2B-4DB1-B656-0356E80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A2E-4DD4-423D-9EA7-98984AFB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9F9-5E54-4818-AC80-4FBAC44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05E1-1949-4E80-93B3-4CFBAD5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6A3-C583-4E3F-AA2C-01FB6DC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703-6B85-4610-ACDA-D2EF88A3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5F2F-D746-4BC3-8327-3DFD9A5C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76E-A8B1-4205-B665-35E0806F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886-40A2-4BF3-BC9A-5C77F2F8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DFB-9522-4B3B-BB56-295784B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5BF-8B9F-4616-A67E-DDBB4DD1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C34-3CA9-493D-AD1E-30256B0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71A-6135-473F-930F-4561081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6C6-E618-49E6-8E8C-D117436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6F9-AB63-4387-8E33-6E10A46764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02C-7E19-49C4-9FEE-CFE06E48FEF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the US Gover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540160"/>
            <a:ext cx="7620120" cy="3174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5791320"/>
            <a:ext cx="1591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http://education.occourts.org/Media/3branches.jp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hit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EXECUTIVE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4421160" cy="331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4120" y="3505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Barack Ob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6004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ce President Joe Bi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24480" y="1557360"/>
            <a:ext cx="1581120" cy="194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4140360"/>
            <a:ext cx="2514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311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4 years (every 4 years, a president has to run for re-el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286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A president may only serve 2 terms (8 years tot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880" y="3219480"/>
            <a:ext cx="5558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A candidate must be at least 35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Born in the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ived in the US for 14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" y="5943600"/>
            <a:ext cx="84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Presidents are elected by the electoral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867280" cy="3460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HE EXECUTIVE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819160" cy="215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24480" y="4648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Cabin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Electoral Colleg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828720"/>
            <a:ext cx="6724800" cy="5191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5480" y="6012000"/>
            <a:ext cx="782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6095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find out how many electoral vote each state has, add the number of Representatives in each state + number of Sen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view of the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4044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768400" cy="304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47242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preme Court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5202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41320" y="5410080"/>
            <a:ext cx="5531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9 Supreme Court ju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David Souter retired and Sonia Sotomayor sworn 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91520" y="2743200"/>
            <a:ext cx="1168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Supreme Co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295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for life (no limit) or until a justice wants to ret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5181480"/>
            <a:ext cx="1316160" cy="167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0400" y="2057400"/>
            <a:ext cx="49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Does not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2920" y="259092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None outlined in the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3124080"/>
            <a:ext cx="823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When there is a vacancy in the federal courts or Supreme Court, a person is nominated by the President and must be confirmed y a 2/3 majority in the Senate. (The Senate holds public hearings over several days to interview/grill the nominee before the Senate vote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9720" y="5562720"/>
            <a:ext cx="418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Chief Justice?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John Rob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Confirmed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LEGISLATIVE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57720" cy="422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657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114800"/>
            <a:ext cx="1143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of 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52720" y="411480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Capitol Building in Washington, 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22840" cy="275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4724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pulation of a state determines how many representatives each state has in the House of Representatives (currently 435 Representatives tot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8600" y="825480"/>
            <a:ext cx="7543800" cy="6032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1080" y="6689880"/>
            <a:ext cx="3010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http://www.wnjpin.state.nj.us/OneStopCareerCenter/LaborMarketInformation/lmi25/appres/map03.gif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70844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Which state has the most representa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</a:t>
            </a:r>
            <a:br>
              <a:rPr sz="3200"/>
            </a:b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House of 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2 years (every 2 years, each Representative has to run for re-el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98764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There is no “term limit” -- some Representatives have been re-elected over and over again and have served 30+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3434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One must be at least 25 years old and a citizen of the United States for 7 years before being eligible to run for office. 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0600" y="5943600"/>
            <a:ext cx="61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Representatives are 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05720" y="18108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Maine’s Current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267080" cy="511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173844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429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c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Mich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2133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c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llie Ping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286000"/>
            <a:ext cx="2590560" cy="1066680"/>
          </a:xfrm>
          <a:prstGeom prst="line">
            <a:avLst/>
          </a:prstGeom>
          <a:ln w="9360">
            <a:solidFill>
              <a:srgbClr val="605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85840" y="3733920"/>
            <a:ext cx="3505320" cy="12189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0" y="1447920"/>
            <a:ext cx="2073240" cy="312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3657600"/>
            <a:ext cx="3048120" cy="259092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THE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8164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enate, each state has equal represent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 Senators from each state x 50 states = 100 Sena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80036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6 years (every 6 years, each Senator may run for re-election, and the terms are staggered so that all Senators are not up for re-election at the same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384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There is no “term limit” -- some Senators have been re-elected over and over again and have served 30+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6036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One must be at least 30 years old and a citizen of the United States for 9 years before being eligible to run for office. 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6560" y="586728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Senators are 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29400" y="120600"/>
            <a:ext cx="23623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Maine’s Current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6836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70520" y="1523880"/>
            <a:ext cx="3095640" cy="3886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71600" y="5638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ympia Sn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5562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an Coll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y Bongard</cp:lastModifiedBy>
  <dcterms:modified xsi:type="dcterms:W3CDTF">2009-09-30T14:30:00Z</dcterms:modified>
  <cp:revision>33</cp:revision>
  <dc:subject/>
  <dc:title>THE LEGISLATIVE BRANCH</dc:title>
</cp:coreProperties>
</file>